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3FC-0116-4CED-B506-F8079712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045-4E7A-4487-83D6-49D60C15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C70-AEF9-4AED-A7E0-06BCD4C1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CFD-EE37-43A0-A3DD-1D04920D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9D4-DA59-4616-BA95-92853152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76B-934C-4C7A-BEEB-16944FBC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0EF-D16D-46F0-B93C-3FB0F713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977-C6B3-41B0-B445-C7DE03AF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196-2FD0-4CB7-ABA9-110DC0B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AF1-9B46-458F-A328-49F0640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70E-23C2-4F6C-91FC-0944C5F3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E30-88E9-4BC1-A0D0-6DC516A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985A-426B-4C0D-A6CC-5069240B39B3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51DB-5F00-4EFE-8C67-9CD09CF4FA2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4140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AC Updat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920" y="4653000"/>
            <a:ext cx="71056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ip Dogget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cilitator, Texas Nodal Tea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cember 2, 200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November 15 Voting (cont)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440000"/>
          <a:ext cx="8101080" cy="351936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30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pprov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vised DAEM white paper as amended during   the November 15, 2004 TNT General Session, allowing NOIEs to carry CRR Options to Real-Time up to 110% of next day’s peak load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R Mitigation (offer floo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CRR derate (uplift shortfall to CRR holders pro-rata, includes surplus accou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R Auction Revenue allocated zonally to load for source and sink in same zone, otherwise ERCOT–wide load ratio sha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83.8% in favor and 16.2% oppos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FB6-C1AA-4729-BE44-E8B8CDB511E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E7F82-8D94-4B3A-AFDD-D5BB4CB753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November 15 Voting (cont)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40000"/>
          <a:ext cx="8101080" cy="219384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simplify settlement of Point-To-Point CRR Options to settle at a price equal to the settlement price at the point of withdrawal minus the settlement price at the point of injection, provided that the option instrument’s price must be 0 or greate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90.5% in favor and 9.5% oppos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A04-B441-4A47-908D-10BAEAA491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83399-33C4-45D2-9368-677DBFC76E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st Benefit Stud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RCOT Protocol Develop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conomist Issu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vember 8 Vo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vember 15 Vo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34F-912A-4804-88C2-50562DEB9D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323DC-9B02-4699-B2FD-11E2A8045F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st Benefit  Stud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tailed draft of EIA received November 1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nal OMIA and Implementation Impacts Assessment (IIA) also received November 1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MCG discussed final drafts on November 19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rehensive final report expected November 3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lan to request approval to file at the December 14 Board meet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filing deadline for the Cost Benefit Study was moved to December 3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290-0449-44F1-9F31-E8178FFF22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E53DE-2521-4185-AA4C-EF1EB34144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RCOT Protocol Developmen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und 2 started November 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leted Round 2 final review of all sections that should remain unchanged by the economist’s comment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rting Round 2 intermediate review of sections impacted by economist’s recommendations on December 7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und 2 final review of sections impacted by economist’s recommendations scheduled to begin in late January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D4B-FAF6-491A-B0B5-D12D367AC5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67358-7255-4A36-A64E-865EFDBFB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onomist Issue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 November 8, we decided to adopt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Addition of Co-Optimization of AS and energy in the Day-Ahead Energy Market (DA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hange in the Reliability Unit Commitment (RUC) allocation multipl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reation of a demand curve for a small quantity of Responsive Reserve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We decided not to adopt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A must-offer in DA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ERCOT “pre-commitment” of units in DAEM that it deems required for the following operating 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Any zonal allocation of RUC co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Allocation of Congestion Revenue Rights to Lo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 November 15, we decided to adopt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end Section 6.8.2 Uninstructed Resource Parameters to 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Greer’s proposed DAEM 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ully fund CRRs, with offer floors, CRRs not sold on radial lines with resource on either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Alternate settlement for CRR Op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Allocation of CRR Auction Revenues to Lo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hanges adopted will be incorporated in the Round 2 Protocol review process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1D4-2F61-4956-87F0-C590502EA4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35E36-64E2-48A8-BA64-C2FF3C7B6F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November 8 Voting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440000"/>
          <a:ext cx="8101080" cy="468612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42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pprove the Day Ahead Energy Market with Ancillary Services Co-optimization whitepaper as revised at the November 8, 2004 TNT General Session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pprove the Demand Curve for Small Quantity of Responsive Reserve Service document as amended during the November 8, 2004 TNT General Session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91.1% in favor and 8.9% opposed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100% in favor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10D-B516-4D76-AE7C-997B9F0E9B8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941EA-6F5C-4F7D-94AF-75126B3E93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November 8 Voting (cont)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440000"/>
          <a:ext cx="8101080" cy="493056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44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pprove option 2 for RUC allocation (Capacity Insufficiency costs system wide to those short and Congestion/Reliability costs to Load Zone on LRS) as revised at the November 8, 2004 TNT General Session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pprove the current white paper language for RUC Allocation with the multiplier revised from 6 to 2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jected by a ballot vote of 29% in favor and 71% oppose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88.4% in favor and 11.6% oppose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0B4-8B64-463D-94D0-F723B652D3C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3B2E9-0B27-4C18-83F5-9D4917F8EB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November 8 Voting (cont)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440000"/>
          <a:ext cx="8101080" cy="372744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32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table the vote on Greer’s DAEM white paper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91.2% in favor and 8.8% oppose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1B6-6395-4C55-B7EA-2E9138D475E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112E0-700E-4B1C-8DE5-7EBB4D811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November 15 Voting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440000"/>
          <a:ext cx="8101080" cy="473868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42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send proposed revisions to 6.8.2.1, Generation Resource Base Point Deviation Charge, to ROS for their evaluatio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pprov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vised DAEM white paper as amended during   the November 15, 2004 TNT General Session, allowing NOIEs to carry CRR Options to Real-Time up to next day’s peak load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R Mitigation (offer floo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CRR derate (uplift shortfall to CRR holders pro-rata, includes surplus accou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R Auction Revenue allocated zonally to load for source and sink in same zone, otherwise ERCOT–wide load ratio sha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95.2% in favor and 4.8% oppos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jected by a ballot vote of 64.2% in favor and 35.8% oppos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72A-92B2-4364-9F03-B7F8E66875F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49693-7C08-4728-B0CE-802F14E33C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p Doggett</cp:lastModifiedBy>
  <dcterms:modified xsi:type="dcterms:W3CDTF">2004-11-20T00:32:03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